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44E-FCB4-4767-856F-9C7CEE2D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B9E-AE63-42E9-8E7A-9FA61653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64B-8B7B-4507-9335-9F52C6F3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32F-ADA1-4F39-B506-1E366F50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0F24-B9CA-4060-B17F-59D4AA8F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F3C9-7329-43F5-8FD6-D1D3BBFF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A49E-A9C2-4B1C-ACF8-68C619EE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C5E1-F441-4103-AEF0-2661A8A2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9497-9EEA-4CA8-BA36-B3872F8D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6E5B-FC2F-44A2-A5F6-7BEEE8DE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2AAA-E97C-4C8E-BA0B-69C2425B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C53-8861-4711-B014-CA0EF5F9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1651-A09C-430F-BA54-CB8E911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B4BE-08B8-4D83-98FE-560C7710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50DC-2EC3-49A9-84CD-EBE34292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FB45-24CC-456F-BD45-A5DBF101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E343-AA00-454D-893D-B54B3485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DCE9-BAFC-45A4-B777-963F5542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46E7-228F-4312-A9D7-B434A643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D3AC-8A20-4C82-8CB7-8FC7C6FA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3CCD-1A64-4E8F-A0F9-975E4A1F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1A0E-6A8E-4C8F-BAD4-8554AF80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1B3-4413-4591-98C2-2E1EF07D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24F0-7CDC-4D05-96FC-DDCDBC1E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4EF5-907F-40F9-BE3B-563D04DF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2C8E-60CB-4670-9514-B3712C2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F01B-2AC3-4137-8691-C7BCA62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EC25-6F01-4DC3-B760-6BD0DA70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D26A-5E8C-481C-810A-403E10AA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E2864-074B-4497-8B15-56F6D842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D51E-8FC1-46BA-BEF5-70C538E0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2931-2DD9-418E-A78C-B8E79E17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5BF2-4D41-4E13-BF09-317A6E6B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B5D-927B-4A69-BB89-EE141961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6094-9067-45A3-8861-A7A2024C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1740-7FA9-437C-A52E-FDFFA5BC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59C2-7BED-446C-82C4-D13F99A2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94B8-EC99-45F5-9323-26821745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E0AC-4A58-4D86-BAC8-B22C17B6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17BC-F33D-4582-9F2E-F270794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3A1A-7EE5-4BFE-B397-7C567AA2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5616-A7BA-4326-8EAD-0EAF570F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1AB2D-FD50-4444-81C2-39098D33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89B-07F9-4FB3-80B8-61886762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8AD-C838-4835-BB7A-934B6CE2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C6D-D0AA-46CD-806A-068A1F7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7E3-2685-43F9-A1FA-BBA9B1C5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551-47A6-4E81-B148-9B0BE2C9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CC10-C7C1-4262-8451-C6B8A9EF32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B815-398D-4D36-8BA3-1D15B338E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FD6-4BCB-46D2-A9CD-C82AC849B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8342-F68D-49EB-831D-1641943CF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vm.usu.edu/en/nav/vlibrary.html" TargetMode="External"/><Relationship Id="rId3" Type="http://schemas.openxmlformats.org/officeDocument/2006/relationships/hyperlink" Target="http://nlvm.usu.edu/en/nav/vlibrary.html" TargetMode="External"/><Relationship Id="rId4" Type="http://schemas.openxmlformats.org/officeDocument/2006/relationships/hyperlink" Target="http://nlvm.usu.edu/en/nav/vlibrary.html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enter.k12.mo.us/Edtech/everydaymath.htm" TargetMode="External"/><Relationship Id="rId3" Type="http://schemas.openxmlformats.org/officeDocument/2006/relationships/hyperlink" Target="http://illuminations.nctm.org/Activities.aspx?grade=1&amp;grade=2&amp;grade=3&amp;grade=4" TargetMode="External"/><Relationship Id="rId4" Type="http://schemas.openxmlformats.org/officeDocument/2006/relationships/hyperlink" Target="http://www.shodor.org/interactivate/" TargetMode="External"/><Relationship Id="rId5" Type="http://schemas.openxmlformats.org/officeDocument/2006/relationships/hyperlink" Target="http://www.shodor.org/interactivate/" TargetMode="External"/><Relationship Id="rId6" Type="http://schemas.openxmlformats.org/officeDocument/2006/relationships/hyperlink" Target="http://www.shodor.org/interactivate/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bistar.4teachers.org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chool.discovery.com/schrockguide/assess.html#web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uzzlemaker.school.discovery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Wednesday, March 26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eb 2.0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Learning and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 the World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tud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uthorship / particip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ou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llaborativ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communities of lear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courages student-centered,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nstructivi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hands-on,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informa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learning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Legitimiz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students as producers /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67000" cy="53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52120" y="152352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ers students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option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ntro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v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motes PBL’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blem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oject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assion Based Learning</a:t>
            </a:r>
            <a:endParaRPr b="0" i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67000" cy="539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47712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Blog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student auth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ik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collaborative work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Podcast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audio / video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Media-shar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tagged photos and v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Flickr &amp; 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ocial Network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shar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MySpace &amp; Pic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R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aggregator; information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Virtual world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digit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Second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Social Annotatio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sharing notes on web-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Di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Virtual Workspac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interac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haring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01318"/>
                </a:solidFill>
                <a:latin typeface="Arial"/>
              </a:rPr>
              <a:t>Vye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Virtual Math Manipulative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3857760" cy="291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904760" y="22856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be an effective </a:t>
            </a: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assistiv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technolog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milar to gaming; inte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ous levels, strands,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inesthetic learners benefit grea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057400" y="2133720"/>
            <a:ext cx="358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ational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f 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nipu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known, most ex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5867280" y="2590920"/>
            <a:ext cx="2943360" cy="202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- "Did You Know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web 2.0? – the read/writ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2.0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based Math Manipu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ach to assessment - Rubric builders on-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Given the changing nature of information, can teachers be effective educators without changing too?</a:t>
            </a:r>
            <a:br>
              <a:rPr sz="2400"/>
            </a:b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0" y="2514600"/>
            <a:ext cx="6324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veryday Math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CTM Illu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odo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terac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Virtual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133720" y="99036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Rubric-based Assessment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143820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752480" y="2286000"/>
            <a:ext cx="701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formance-based (authentic)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ves away from traditional assessment means (tes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52120" y="17521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/ or student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acher and / or peer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when known up-front of activity – allows students to tail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-line tool for teachers (and students) to develop rubrics fo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3600360" cy="233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scove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y-made rubrics, web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easily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Rubr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181480" y="2514600"/>
            <a:ext cx="3276720" cy="203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uzzlemaker…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52480" y="17521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zzl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tes many puzz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uzzl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6553440" cy="167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it possible to be a good teacher without using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a teacher serve his/her students in the best way possible without using technology, or do the realities of today’s student demand that teachers accept and utilize technology in their te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 we simply expecting too much from our teachers and our stude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What is…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5638680" cy="406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504960" y="2742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eb 2.0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224480" y="39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eb 1.0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web-based services that was primarily read-only b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nowledge /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acc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key to web pub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e-wa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52480" y="20570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econd genera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f web-ba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phasis on on-line sharing and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2.0”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hints at improved or upgrade to original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828440" y="23623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Web 2.0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 “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Read – writ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” web-based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ess for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Shar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/ two-wa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904760" y="23623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Every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be an 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ti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o changing global econom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Participator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/ democra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91320" y="228600"/>
            <a:ext cx="2533680" cy="146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Gary Gallant</cp:lastModifiedBy>
  <dcterms:modified xsi:type="dcterms:W3CDTF">2008-03-26T19:27:53Z</dcterms:modified>
  <cp:revision>40</cp:revision>
  <dc:subject/>
  <dc:title>Welcome to  ED3862</dc:title>
</cp:coreProperties>
</file>